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B72-7BDB-45B2-8E09-59DE45CE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366-A539-47B8-A30B-A2FCB9B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E69-C083-435B-9DBC-ADBFD338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1FC-D869-44A2-B704-B9D0ED8B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225-2B0C-41E6-B4E1-A704A14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557-3E25-4033-A7E5-B576325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A49-680E-40F5-881D-ADAFAFA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B46-E66E-4559-8A3D-58D99AF1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C24-5CB1-4042-85FE-15C19F13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9AF-2DC2-4426-BA19-7863F1D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BA7-E636-4A89-A98B-65FBABA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C65-C081-411D-9E33-7DBD4D6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76B62-71B1-4F8D-84D7-4AC07367B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DC385-035E-4ED1-A396-CABF0A436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276200" y="2081160"/>
            <a:ext cx="659160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 “Do what he _________ you to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. wa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276200" y="1828800"/>
            <a:ext cx="65916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 “Then all those things will also be __________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th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encha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76200" y="1828800"/>
            <a:ext cx="65916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 “Then all those things will also be __________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.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th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encha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990720" y="2666880"/>
            <a:ext cx="723888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OW TO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about today’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276200" y="1538280"/>
            <a:ext cx="65916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In all things we should put Go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on our list of important things, but it doesn’t matter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after ou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third after ourselves and ou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276200" y="1538280"/>
            <a:ext cx="65916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In all things we should put Go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.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on our list of important things, but it doesn’t matter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after ou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third after ourselves and ou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76200" y="1365120"/>
            <a:ext cx="659160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What can we do to make God first in our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Pray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Memorize Bible verses so it’s in 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Talk to our friends and family about God’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All of the abo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6200" y="1365120"/>
            <a:ext cx="659160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What can we do to make God first in our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Pray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Memorize Bible verses so it’s in 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Talk to our friends and family about God’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. All of the abo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76200" y="1752480"/>
            <a:ext cx="65916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“But put God’s _______________ fir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276200" y="1752480"/>
            <a:ext cx="65916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“But put God’s _______________ fir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.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276200" y="2081160"/>
            <a:ext cx="659160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 “Do what he _________ you to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wa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10:50:56Z</dcterms:created>
  <dc:creator>Melissa Jones</dc:creator>
  <dc:description/>
  <dc:language>en-US</dc:language>
  <cp:lastModifiedBy>Melissa Jones</cp:lastModifiedBy>
  <dcterms:modified xsi:type="dcterms:W3CDTF">2021-07-07T17:16:29Z</dcterms:modified>
  <cp:revision>673</cp:revision>
  <dc:subject/>
  <dc:title>Slide 1</dc:title>
</cp:coreProperties>
</file>